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E12-9F77-47D3-8FEA-0E1F7772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F98-743C-4C9E-BFDC-ED5331E9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097-CA03-4CE4-8869-C2DD1FB7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4A5D-6AED-4798-9FA4-03D3FB5C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4B5A-A0F8-45CF-AEBB-9D4E086F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D19A-2B3C-4CF4-AB4F-33CEAE73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AC3C-BF16-4BC3-BD21-59CF046D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98ED-3ABC-442C-B401-9353FF21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FE46-4AC0-4B27-AA61-A3412B24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4DBB-0BD7-4B61-BCAD-AFF42F42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EBF8-EF2C-4E9D-B33B-2F430FA3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09F-CBB9-43FD-80AA-7A327656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F652-AD4C-46B5-9A22-C9439D49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7207-F9B3-44F0-9C21-1AA2A557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15AF-782E-4715-A23B-D35F620C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1008-9508-4557-9581-5387715E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8849-928E-4803-AB7E-AEF3A419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23A80-8554-496C-9364-F6DEE427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E2523-B2AD-4E3D-A639-EA79844F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84B10-30C2-44D0-B4BE-AEAE49AF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F3907-10E6-4072-97C2-8A1A3F13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ECE44-697B-40A8-B2B5-26AF186D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151-5C98-4DA3-B45E-4F0B0945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75CF4-F409-4164-A6A5-040A4949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09D88-D140-4307-B77E-7AE5834E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04811-119D-48F9-8672-239DB8B5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7D608-3F7D-4B56-A5C5-ADA7EB91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76AC0-DB30-4ECC-BD0B-35B1D8B0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BC3C6-588E-48CA-8619-E31081CE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9D2F-5C8C-4ECA-BE56-5F9E2773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2E8C-4EC5-48A0-BCDA-CD978976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2353-CE51-4B11-8ABF-7907E038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874-1905-466B-B7E3-56E684F9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EFD-CFC4-4C73-BF12-8262D543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507-96EA-4777-B5E1-F38A37F7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A8F-EA33-4AD9-875D-84E4EFC9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81D5-F133-4A83-B15B-A5482F9D6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A24A-68C8-4EC7-AAA9-D1D8CC59C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AEB0-B7E9-49BA-9348-195E501422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We S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chanism of S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page17"/>
          <p:cNvPicPr/>
          <p:nvPr/>
        </p:nvPicPr>
        <p:blipFill>
          <a:blip r:embed="rId1"/>
          <a:stretch/>
        </p:blipFill>
        <p:spPr>
          <a:xfrm>
            <a:off x="5334120" y="1219320"/>
            <a:ext cx="322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the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6" descr="eye"/>
          <p:cNvPicPr/>
          <p:nvPr/>
        </p:nvPicPr>
        <p:blipFill>
          <a:blip r:embed="rId1"/>
          <a:stretch/>
        </p:blipFill>
        <p:spPr>
          <a:xfrm>
            <a:off x="1752480" y="1143000"/>
            <a:ext cx="5715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Receptor Cells in the Ey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ds and c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 at the back of the re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ps stick out to catch 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ds see low intensity light, black and wh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es see high intensity light and see col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7" descr="rod_cone"/>
          <p:cNvPicPr/>
          <p:nvPr/>
        </p:nvPicPr>
        <p:blipFill>
          <a:blip r:embed="rId1"/>
          <a:stretch/>
        </p:blipFill>
        <p:spPr>
          <a:xfrm>
            <a:off x="5046840" y="1600200"/>
            <a:ext cx="3244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Ret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ds and cones reach the surface of the re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attached to smaller n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nerves gather to become the optic ne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5" descr="rodcone"/>
          <p:cNvPicPr/>
          <p:nvPr/>
        </p:nvPicPr>
        <p:blipFill>
          <a:blip r:embed="rId1"/>
          <a:stretch/>
        </p:blipFill>
        <p:spPr>
          <a:xfrm>
            <a:off x="4653000" y="2228760"/>
            <a:ext cx="40338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ds and C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 microscope picture of rods and c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es are the short, stumpy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ds are the longer, straighter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5" descr="fig3-61retinarods-conesTN"/>
          <p:cNvPicPr/>
          <p:nvPr/>
        </p:nvPicPr>
        <p:blipFill>
          <a:blip r:embed="rId1"/>
          <a:stretch/>
        </p:blipFill>
        <p:spPr>
          <a:xfrm>
            <a:off x="4680000" y="1600200"/>
            <a:ext cx="397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hodops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r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hodopsin is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receptor embedded in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7" descr="thumbnail"/>
          <p:cNvPicPr/>
          <p:nvPr/>
        </p:nvPicPr>
        <p:blipFill>
          <a:blip r:embed="rId1"/>
          <a:stretch/>
        </p:blipFill>
        <p:spPr>
          <a:xfrm>
            <a:off x="4653000" y="1965240"/>
            <a:ext cx="40338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hodops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odopsin is made of 2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odopsin = retinene + op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hits rhodopsin and splits rhodopsin into retinene and op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itting of rhodopsin causes the start of nerve impu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 impulse travels to optic nerve then b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hodops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ee again retinene and opsin have to get back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 is required to do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s why we get tired looking at bright lights, computer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7"/>
          <p:cNvGrpSpPr/>
          <p:nvPr/>
        </p:nvGrpSpPr>
        <p:grpSpPr>
          <a:xfrm>
            <a:off x="2286000" y="2166840"/>
            <a:ext cx="4572000" cy="2470320"/>
            <a:chOff x="2286000" y="2166840"/>
            <a:chExt cx="4572000" cy="2470320"/>
          </a:xfrm>
        </p:grpSpPr>
        <p:sp>
          <p:nvSpPr>
            <p:cNvPr id="274" name="Rectangle 4"/>
            <p:cNvSpPr/>
            <p:nvPr/>
          </p:nvSpPr>
          <p:spPr>
            <a:xfrm>
              <a:off x="2286000" y="2166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2286000" y="2166840"/>
              <a:ext cx="4572000" cy="24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n-US" sz="15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 See Colou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es see col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only have 3 colour receptors: red blue and g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lours we see are determined by how many and what type of colour cones are jigg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12" descr="hueanat"/>
          <p:cNvPicPr/>
          <p:nvPr/>
        </p:nvPicPr>
        <p:blipFill>
          <a:blip r:embed="rId1"/>
          <a:stretch/>
        </p:blipFill>
        <p:spPr>
          <a:xfrm>
            <a:off x="4495680" y="129528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6:18:09Z</dcterms:created>
  <dc:creator>OHS</dc:creator>
  <dc:description/>
  <dc:language>en-US</dc:language>
  <cp:lastModifiedBy>Ward, Jeffrey    (ASD-W)</cp:lastModifiedBy>
  <cp:lastPrinted>2017-03-03T19:29:01Z</cp:lastPrinted>
  <dcterms:modified xsi:type="dcterms:W3CDTF">2017-03-03T19:29:07Z</dcterms:modified>
  <cp:revision>10</cp:revision>
  <dc:subject/>
  <dc:title>How We See</dc:title>
</cp:coreProperties>
</file>